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7589A-0282-41AA-82E1-2DC3AFD56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3794-637D-485A-93A9-129E95D4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E978C-E39B-4D75-83D9-165F0596D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4C4DE-ECEF-4286-A987-6C4572324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9958-97D3-4EBD-AF69-249BA2DB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4C5B-04C8-46D1-BA4F-BE6450C0B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B5AD-729F-4167-B811-5CB62D276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397B-62CB-414F-8136-4D36C559F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4E61-71D1-4914-84EF-03FA4D395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A872-B8E7-4AE9-9348-BE83F815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01F47-99F6-4621-8EA5-B42ADA83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0451-61B3-44A2-95B1-14491FB6B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5FA7-07EB-4660-80EB-7E460797E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14 Juille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escu  Ana Ma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a a 9-a D</a:t>
            </a:r>
            <a:endParaRPr b="0" lang="en-US" sz="3200" spc="-1" strike="noStrike">
              <a:solidFill>
                <a:srgbClr val="000000"/>
              </a:solidFill>
              <a:latin typeface="Arial"/>
            </a:endParaRPr>
          </a:p>
        </p:txBody>
      </p:sp>
      <p:pic>
        <p:nvPicPr>
          <p:cNvPr id="43" name="" descr=""/>
          <p:cNvPicPr/>
          <p:nvPr/>
        </p:nvPicPr>
        <p:blipFill>
          <a:blip r:embed="rId1"/>
          <a:stretch/>
        </p:blipFill>
        <p:spPr>
          <a:xfrm>
            <a:off x="2916360" y="260280"/>
            <a:ext cx="331128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ment les français célèbrent la journée du 14 Juille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que année, le 14 Juillet, un grand défilé militaire a lieu sur les Champs-Elysées. Parades militaires, des cérémonies et des feux d'artifice profitent d'un préparé avec soi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lon des traditions immuables, le 14 Juillet, à 10h00, le président atteindre le rond-point l'Etoile, seront accueillis par le chef d'état-major et  ira sur les Champs-Elysée bord d'une voiture ouvert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ade sera ouverte du porte-avions Alpha Jet (Patrouille de France) avec une fonction spéciale, qui consiste en la participation d'environ 20 machines de la flotte d'aéronefs célèbre ses  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611280" y="2060640"/>
            <a:ext cx="4537080" cy="2763720"/>
          </a:xfrm>
          <a:prstGeom prst="rect">
            <a:avLst/>
          </a:prstGeom>
          <a:ln w="0">
            <a:noFill/>
          </a:ln>
        </p:spPr>
      </p:pic>
      <p:pic>
        <p:nvPicPr>
          <p:cNvPr id="69" name="" descr=""/>
          <p:cNvPicPr/>
          <p:nvPr/>
        </p:nvPicPr>
        <p:blipFill>
          <a:blip r:embed="rId2"/>
          <a:stretch/>
        </p:blipFill>
        <p:spPr>
          <a:xfrm>
            <a:off x="5580000" y="1989000"/>
            <a:ext cx="302112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 14 Juillet est la Journée nationale de la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ssi cette journée signifie la chute de la Bastille qui a marqué le début de la Révolution francaiça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symboles de la Fra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rc de Triomphe du Paris est le plus grand arc de triomphe dans le monde. Il présente 49 m et a été inaugure par l’empereur Napoléon en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our Eiffel nommé après l'architecte Gustave Eiffel est le symbole le plus connu de la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lais Versallies construit entre 1664 et 1715 a été la résidence de la famille royale jusqu'en 1789, quand il a été la Révolution frança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oltaire – auteur et philosop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ictor Hugo – poète, dramaturge, romancier, connu pour le roman "Les Misér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our Eiffel                 </a:t>
            </a:r>
            <a:r>
              <a:rPr b="0" lang="en-GB" sz="3200" spc="-1" strike="noStrike">
                <a:solidFill>
                  <a:srgbClr val="000000"/>
                </a:solidFill>
                <a:latin typeface="Arial"/>
              </a:rPr>
              <a:t>L’Arc de Triomphe </a:t>
            </a:r>
            <a:endParaRPr b="0" lang="en-US" sz="3200" spc="-1" strike="noStrike">
              <a:solidFill>
                <a:srgbClr val="000000"/>
              </a:solidFill>
              <a:latin typeface="Arial"/>
            </a:endParaRPr>
          </a:p>
        </p:txBody>
      </p:sp>
      <p:pic>
        <p:nvPicPr>
          <p:cNvPr id="52" name="" descr=""/>
          <p:cNvPicPr/>
          <p:nvPr/>
        </p:nvPicPr>
        <p:blipFill>
          <a:blip r:embed="rId1"/>
          <a:stretch/>
        </p:blipFill>
        <p:spPr>
          <a:xfrm>
            <a:off x="900000" y="2205000"/>
            <a:ext cx="2095560" cy="3876840"/>
          </a:xfrm>
          <a:prstGeom prst="rect">
            <a:avLst/>
          </a:prstGeom>
          <a:ln w="0">
            <a:noFill/>
          </a:ln>
        </p:spPr>
      </p:pic>
      <p:pic>
        <p:nvPicPr>
          <p:cNvPr id="53" name="" descr=""/>
          <p:cNvPicPr/>
          <p:nvPr/>
        </p:nvPicPr>
        <p:blipFill>
          <a:blip r:embed="rId2"/>
          <a:stretch/>
        </p:blipFill>
        <p:spPr>
          <a:xfrm>
            <a:off x="5364000" y="2133720"/>
            <a:ext cx="2918160" cy="38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lais Versallies</a:t>
            </a:r>
            <a:endParaRPr b="0" lang="en-US" sz="3200" spc="-1" strike="noStrike">
              <a:solidFill>
                <a:srgbClr val="000000"/>
              </a:solidFill>
              <a:latin typeface="Arial"/>
            </a:endParaRPr>
          </a:p>
        </p:txBody>
      </p:sp>
      <p:pic>
        <p:nvPicPr>
          <p:cNvPr id="56" name="" descr=""/>
          <p:cNvPicPr/>
          <p:nvPr/>
        </p:nvPicPr>
        <p:blipFill>
          <a:blip r:embed="rId1"/>
          <a:stretch/>
        </p:blipFill>
        <p:spPr>
          <a:xfrm>
            <a:off x="1547640" y="2421000"/>
            <a:ext cx="5473800" cy="28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berté, Égalité, Fraternité</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berté, Égalité, Fraternité</a:t>
            </a:r>
            <a:r>
              <a:rPr b="0" lang="en-US" sz="3200" spc="-1" strike="noStrike">
                <a:solidFill>
                  <a:srgbClr val="000000"/>
                </a:solidFill>
                <a:latin typeface="Arial"/>
              </a:rPr>
              <a:t> est la devise de la République française. Si elle puise ses origines dans la Révolution française, au cours de laquelle elle est une formule parmi d'autres, elle ne sera adoptée officiellement en France qu'à la fin du xixe siècle, par la Troisième Républiqu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devise Liberté, Égalité, Fraternité est issue de la Révolution française : elle apparaît dans le débat public avant la proclamation de la Première République, dès 17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476360" y="1773360"/>
            <a:ext cx="6121440" cy="41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17:56:26Z</dcterms:created>
  <dc:creator>ANA</dc:creator>
  <dc:description/>
  <dc:language>en-US</dc:language>
  <cp:lastModifiedBy>ANA</cp:lastModifiedBy>
  <dcterms:modified xsi:type="dcterms:W3CDTF">2012-04-26T17:40:17Z</dcterms:modified>
  <cp:revision>9</cp:revision>
  <dc:subject/>
  <dc:title>Le 14 Juillet </dc:title>
</cp:coreProperties>
</file>